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jpeg" ContentType="image/jpe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A8543-FAF4-4924-87EA-4F571CA2A8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BEC0D4-2F69-4B03-ABBF-C3E54CE050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1EB29-036E-4D5B-A452-DA9ED0CECB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5B4A2-7A61-45DD-A63F-448516BE34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EA6F91-4DE8-4499-A86F-EA34027D81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A6F58-A843-4CF2-B804-D664EDEB70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8B04856-816D-46EA-AF1A-D89062867D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9E5DD-F904-4629-AF0C-4BB4ABB0A3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8758B2-7C26-454A-B7D8-251AB816C6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190597-3DEF-41F2-8AEE-A70DBEE14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6413C-09B4-4FD9-86F4-3262EACDB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DF9B6-BCB5-4433-B678-C84E4B23EF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66F6AE-5B53-40A0-AFFE-BC1FB1163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39394C-2D5E-46C4-89A4-EFD311D48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740F1D-F376-4829-98FF-5555358EB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5D69C-9CCA-45B3-BC66-C2E4CD7664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23964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22080" y="19346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5720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23964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22080" y="4227840"/>
            <a:ext cx="264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71E03-5525-4019-A0B2-BC82757726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5F226-71DD-4A64-A137-FEE07E73D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D3DA8-572F-4FCE-B5E6-6DC1BABE63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334E4-9256-415F-9E48-74385C4803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045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2E7E9-8283-42EE-9849-8B1C59600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DC31B-C03D-4F4B-B5DA-E3162EB6A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278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CBD76-FF07-44E0-8A96-137D9A06FC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34640"/>
            <a:ext cx="40158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27840"/>
            <a:ext cx="82296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A776E9-D766-4350-8E6E-962169EDF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6"/>
          <p:cNvSpPr/>
          <p:nvPr/>
        </p:nvSpPr>
        <p:spPr>
          <a:xfrm>
            <a:off x="-9360" y="-792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" name="Freeform 7"/>
          <p:cNvSpPr/>
          <p:nvPr/>
        </p:nvSpPr>
        <p:spPr>
          <a:xfrm>
            <a:off x="4381560" y="-792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0 h 638280"/>
              <a:gd name="textAreaBottom" fmla="*/ 63864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462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8F7BDE-1A63-4A58-BE5C-6000F6227931}" type="slidenum">
              <a:rPr b="0" lang="en-GB" sz="1200" spc="-1" strike="noStrike">
                <a:solidFill>
                  <a:srgbClr val="6462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grpSp>
        <p:nvGrpSpPr>
          <p:cNvPr id="7" name="Group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Freeform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Freeform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  <p:grpSp>
          <p:nvGrpSpPr>
            <p:cNvPr id="11" name="Freeform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Freeform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onstantia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nip and Round Single Corner Rectangle 13"/>
          <p:cNvSpPr/>
          <p:nvPr/>
        </p:nvSpPr>
        <p:spPr>
          <a:xfrm flipV="1" rot="420000">
            <a:off x="3165480" y="1107000"/>
            <a:ext cx="5257800" cy="4114800"/>
          </a:xfrm>
          <a:custGeom>
            <a:avLst/>
            <a:gdLst>
              <a:gd name="textAreaLeft" fmla="*/ 0 w 5257800"/>
              <a:gd name="textAreaRight" fmla="*/ 5182920 w 5257800"/>
              <a:gd name="textAreaTop" fmla="*/ 360 h 4114800"/>
              <a:gd name="textAreaBottom" fmla="*/ 4115520 h 4114800"/>
            </a:gdLst>
            <a:ahLst/>
            <a:rect l="textAreaLeft" t="textAreaTop" r="textAreaRight" b="textAreaBottom"/>
            <a:pathLst>
              <a:path w="5257800" h="4114800">
                <a:moveTo>
                  <a:pt x="0" y="0"/>
                </a:moveTo>
                <a:lnTo>
                  <a:pt x="5107774" y="0"/>
                </a:lnTo>
                <a:lnTo>
                  <a:pt x="5257800" y="150026"/>
                </a:lnTo>
                <a:lnTo>
                  <a:pt x="5257800" y="4114800"/>
                </a:lnTo>
                <a:lnTo>
                  <a:pt x="0" y="4114800"/>
                </a:lnTo>
                <a:lnTo>
                  <a:pt x="0" y="0"/>
                </a:lnTo>
                <a:close/>
              </a:path>
            </a:pathLst>
          </a:custGeom>
          <a:solidFill>
            <a:srgbClr val="ffffff"/>
          </a:solidFill>
          <a:ln cap="rnd" w="3240">
            <a:solidFill>
              <a:srgbClr val="c0c0c0"/>
            </a:solidFill>
            <a:round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1" name="Right Triangle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2" name="Freeform 15"/>
          <p:cNvSpPr/>
          <p:nvPr/>
        </p:nvSpPr>
        <p:spPr>
          <a:xfrm flipV="1">
            <a:off x="-9000" y="5815440"/>
            <a:ext cx="9162720" cy="1041480"/>
          </a:xfrm>
          <a:custGeom>
            <a:avLst/>
            <a:gdLst>
              <a:gd name="textAreaLeft" fmla="*/ 0 w 9162720"/>
              <a:gd name="textAreaRight" fmla="*/ 9163080 w 9162720"/>
              <a:gd name="textAreaTop" fmla="*/ 0 h 1041480"/>
              <a:gd name="textAreaBottom" fmla="*/ 1041480 h 1041480"/>
            </a:gdLst>
            <a:ahLst/>
            <a:rect l="textAreaLeft" t="textAreaTop" r="textAreaRight" b="textAreaBottom"/>
            <a:pathLst>
              <a:path w="5772" h="656">
                <a:moveTo>
                  <a:pt x="6" y="2"/>
                </a:moveTo>
                <a:lnTo>
                  <a:pt x="2542" y="0"/>
                </a:lnTo>
                <a:cubicBezTo>
                  <a:pt x="2746" y="101"/>
                  <a:pt x="3828" y="367"/>
                  <a:pt x="4374" y="367"/>
                </a:cubicBezTo>
                <a:cubicBezTo>
                  <a:pt x="4920" y="367"/>
                  <a:pt x="5526" y="152"/>
                  <a:pt x="5766" y="55"/>
                </a:cubicBezTo>
                <a:lnTo>
                  <a:pt x="5772" y="213"/>
                </a:lnTo>
                <a:cubicBezTo>
                  <a:pt x="5670" y="257"/>
                  <a:pt x="5016" y="441"/>
                  <a:pt x="4302" y="439"/>
                </a:cubicBezTo>
                <a:cubicBezTo>
                  <a:pt x="3588" y="437"/>
                  <a:pt x="2205" y="165"/>
                  <a:pt x="1488" y="201"/>
                </a:cubicBezTo>
                <a:cubicBezTo>
                  <a:pt x="750" y="209"/>
                  <a:pt x="270" y="482"/>
                  <a:pt x="0" y="656"/>
                </a:cubicBezTo>
                <a:lnTo>
                  <a:pt x="6" y="2"/>
                </a:lnTo>
                <a:close/>
              </a:path>
            </a:pathLst>
          </a:custGeom>
          <a:gradFill rotWithShape="0">
            <a:gsLst>
              <a:gs pos="0">
                <a:srgbClr val="72845c">
                  <a:alpha val="45098"/>
                </a:srgbClr>
              </a:gs>
              <a:gs pos="100000">
                <a:srgbClr val="49accd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3" name="Freeform 16"/>
          <p:cNvSpPr/>
          <p:nvPr/>
        </p:nvSpPr>
        <p:spPr>
          <a:xfrm flipV="1">
            <a:off x="4381560" y="6219000"/>
            <a:ext cx="4762440" cy="638280"/>
          </a:xfrm>
          <a:custGeom>
            <a:avLst/>
            <a:gdLst>
              <a:gd name="textAreaLeft" fmla="*/ 0 w 4762440"/>
              <a:gd name="textAreaRight" fmla="*/ 4762800 w 4762440"/>
              <a:gd name="textAreaTop" fmla="*/ -360 h 638280"/>
              <a:gd name="textAreaBottom" fmla="*/ 638280 h 638280"/>
            </a:gdLst>
            <a:ahLst/>
            <a:rect l="textAreaLeft" t="textAreaTop" r="textAreaRight" b="textAreaBottom"/>
            <a:pathLst>
              <a:path w="3000" h="595">
                <a:moveTo>
                  <a:pt x="0" y="0"/>
                </a:moveTo>
                <a:cubicBezTo>
                  <a:pt x="174" y="102"/>
                  <a:pt x="1168" y="533"/>
                  <a:pt x="1668" y="564"/>
                </a:cubicBezTo>
                <a:cubicBezTo>
                  <a:pt x="2168" y="595"/>
                  <a:pt x="2778" y="279"/>
                  <a:pt x="3000" y="186"/>
                </a:cubicBezTo>
                <a:lnTo>
                  <a:pt x="3000" y="6"/>
                </a:lnTo>
                <a:lnTo>
                  <a:pt x="0" y="0"/>
                </a:lnTo>
                <a:close/>
              </a:path>
            </a:pathLst>
          </a:custGeom>
          <a:gradFill rotWithShape="0">
            <a:gsLst>
              <a:gs pos="0">
                <a:srgbClr val="42869e">
                  <a:alpha val="45098"/>
                </a:srgbClr>
              </a:gs>
              <a:gs pos="100000">
                <a:srgbClr val="8aa26c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69676d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639720" indent="-245880">
              <a:spcBef>
                <a:spcPts val="649"/>
              </a:spcBef>
              <a:buClr>
                <a:srgbClr val="ceb96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914400" indent="-246240">
              <a:spcBef>
                <a:spcPts val="649"/>
              </a:spcBef>
              <a:buClr>
                <a:srgbClr val="9cb084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1187280" indent="-209520">
              <a:spcBef>
                <a:spcPts val="649"/>
              </a:spcBef>
              <a:buClr>
                <a:srgbClr val="6bb1c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1461960" indent="-209520">
              <a:spcBef>
                <a:spcPts val="649"/>
              </a:spcBef>
              <a:buClr>
                <a:srgbClr val="6585c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646268"/>
                </a:solidFill>
                <a:latin typeface="Constantia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646268"/>
                </a:solidFill>
                <a:latin typeface="Constanti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646268"/>
                </a:solidFill>
                <a:latin typeface="Constanti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354CFB-C9BA-4482-AB52-3C9336AD1D1D}" type="slidenum">
              <a:rPr b="0" lang="en-GB" sz="1200" spc="-1" strike="noStrike">
                <a:solidFill>
                  <a:srgbClr val="646268"/>
                </a:solidFill>
                <a:latin typeface="Constant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quantcast.com/p-fcYWUmj5YbYKM" TargetMode="External"/><Relationship Id="rId3" Type="http://schemas.openxmlformats.org/officeDocument/2006/relationships/image" Target="../media/image5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http://www.quantcast.com/p-fcYWUmj5YbYKM" TargetMode="External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Title 1" descr=""/>
          <p:cNvPicPr/>
          <p:nvPr/>
        </p:nvPicPr>
        <p:blipFill>
          <a:blip r:embed="rId1"/>
          <a:stretch/>
        </p:blipFill>
        <p:spPr>
          <a:xfrm>
            <a:off x="633240" y="231840"/>
            <a:ext cx="8334720" cy="179856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1428840" y="478584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Supervisors: Simon Richardson 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nd Paul Dyer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algn="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By Amanda Aryee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7" name="Picture 3" descr="Quantcast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98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99" name="Picture 2" descr="Pokeweed 8-20"/>
          <p:cNvPicPr/>
          <p:nvPr/>
        </p:nvPicPr>
        <p:blipFill>
          <a:blip r:embed="rId4"/>
          <a:stretch/>
        </p:blipFill>
        <p:spPr>
          <a:xfrm>
            <a:off x="1714680" y="2643120"/>
            <a:ext cx="5572080" cy="171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alibri"/>
              </a:rPr>
              <a:t>Background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01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 plant containing type 1 ribosome inactivating protein (RIP) PAP (Pokeweed antiviral protein). It catalytically inactivates ribosome's, thus inhibiting protein synthes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Depurination in ribosome's shown to occur in functionally equivalent positions in prokaryotes and eukaryot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Current drug delivery systems, although effective, have their advantages and disadvantages and can be improved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pic>
        <p:nvPicPr>
          <p:cNvPr id="102" name="Picture 3" descr="Quantcast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360" cy="9360"/>
          </a:xfrm>
          <a:prstGeom prst="rect">
            <a:avLst/>
          </a:prstGeom>
          <a:ln w="0">
            <a:noFill/>
          </a:ln>
        </p:spPr>
      </p:pic>
      <p:sp>
        <p:nvSpPr>
          <p:cNvPr id="103" name="AutoShape 4"/>
          <p:cNvSpPr/>
          <p:nvPr/>
        </p:nvSpPr>
        <p:spPr>
          <a:xfrm>
            <a:off x="0" y="0"/>
            <a:ext cx="30492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alibri"/>
              </a:rPr>
              <a:t>Methodology</a:t>
            </a:r>
            <a:r>
              <a:rPr b="0" lang="en-GB" sz="5000" spc="-1" strike="noStrike">
                <a:solidFill>
                  <a:srgbClr val="69676d"/>
                </a:solidFill>
                <a:latin typeface="Calibri"/>
              </a:rPr>
              <a:t> 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05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nitially PAP will be sub cloned: recombinant PCR will be used to mutate the PAP sequence creating two combinations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1. Mutated (point mutation) R68G with active site intact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2. Mutated R68G with mutated active sit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xpression by bacterial expression cassette: pET151/D-TOPO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Evaluation of protein by Western Blotting: an analytical technique using antibody protein binding to detect specific protein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alibri"/>
              </a:rPr>
              <a:t>Evaluations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pic>
        <p:nvPicPr>
          <p:cNvPr id="107" name="Picture 2" descr=""/>
          <p:cNvPicPr/>
          <p:nvPr/>
        </p:nvPicPr>
        <p:blipFill>
          <a:blip r:embed="rId1"/>
          <a:stretch/>
        </p:blipFill>
        <p:spPr>
          <a:xfrm>
            <a:off x="214200" y="2000160"/>
            <a:ext cx="4280040" cy="3214800"/>
          </a:xfrm>
          <a:prstGeom prst="rect">
            <a:avLst/>
          </a:prstGeom>
          <a:ln w="0">
            <a:noFill/>
          </a:ln>
        </p:spPr>
      </p:pic>
      <p:sp>
        <p:nvSpPr>
          <p:cNvPr id="108" name="TextBox 4"/>
          <p:cNvSpPr/>
          <p:nvPr/>
        </p:nvSpPr>
        <p:spPr>
          <a:xfrm>
            <a:off x="4643280" y="642960"/>
            <a:ext cx="40006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A protein antibody-antibody sandwich is made.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Secondary antibody has horse radish peroxidase enzyme which converts a luminol substrate to a light releasing substance. Its intensity helps determine the volume of protein relative to other spots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Constantia"/>
              </a:rPr>
              <a:t>From this it can be evaluated whether optimal expression and cloning has occurred</a:t>
            </a:r>
            <a:endParaRPr b="0" lang="en-US" sz="24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704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5000" spc="-1" strike="noStrike">
                <a:solidFill>
                  <a:srgbClr val="000000"/>
                </a:solidFill>
                <a:latin typeface="Calibri"/>
              </a:rPr>
              <a:t>Likely Outcomes</a:t>
            </a:r>
            <a:endParaRPr b="0" lang="en-US" sz="5000" spc="-1" strike="noStrike">
              <a:solidFill>
                <a:srgbClr val="69676d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7200" y="1934640"/>
            <a:ext cx="8229600" cy="43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Although there are drawbacks the hopeful outcomes are;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Improved PAP production in pET151/DTOPO when R68G is cloned. Optimal conditions obtained for two cloning type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Modification of PAP sequence, for least cytotoxicity to cell of drug delivery. R68G mutation will enhance this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marL="256320" indent="-256320">
              <a:lnSpc>
                <a:spcPct val="90000"/>
              </a:lnSpc>
              <a:spcBef>
                <a:spcPts val="649"/>
              </a:spcBef>
              <a:buClr>
                <a:srgbClr val="6bb1c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Constantia"/>
              </a:rPr>
              <a:t>The expected result is for the best possible sequence combination which allows for non damaging drug delivery. The second clone will be less cytotoxic thus more effective.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1-24T01:03:26Z</dcterms:created>
  <dc:creator>User</dc:creator>
  <dc:description/>
  <dc:language>en-US</dc:language>
  <cp:lastModifiedBy>User</cp:lastModifiedBy>
  <dcterms:modified xsi:type="dcterms:W3CDTF">2010-11-24T09:37:53Z</dcterms:modified>
  <cp:revision>52</cp:revision>
  <dc:subject/>
  <dc:title>Pokeweed Antiviral Project</dc:title>
</cp:coreProperties>
</file>